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A9B2F5-5C10-42E5-BBB6-EB09F7196A7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91CAFC-C2DA-4BA1-BE33-43D979AF1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B12A7A-B2C9-45B5-A5BF-2CD2B354B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1AA481-6881-49FC-9527-4FECE47C9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4727-A4DF-421F-8E54-80290E36C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9DDA-83DC-40D8-B00B-7302DB9E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02A5-CB79-4401-9008-894FA595E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9422-35E7-4466-8C9C-E9F473CF6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001A-F0C2-46ED-995F-F15908FE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BED3-9E53-4C62-867B-AD0A033A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944F-0E13-4B61-94D8-26DC1834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8B6C-2A41-4BF3-96FC-026F2766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C90A-7182-44F7-B2CF-8EC5DC64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C7CE-E921-4B3D-863E-D0FEAD79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56F9-2A49-4111-8C40-7BE4C6CA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E058-7DF0-497F-B9B2-02323092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EB93F5-1568-4BCC-B0DE-698CCD7D45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8628A5-5BA0-4543-A5DD-4C8234DA28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990720" y="1828800"/>
            <a:ext cx="77724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ntry 4: Writing About 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rge Group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bruary 7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:00– 11:30 a.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457200" y="304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National Board Cer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762120" y="175248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erentiate betwe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ide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owerfu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i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monstrat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s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 on stud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457200" y="304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ts?t=1887475138388030278&amp;pid=26&amp;ppid=0"/>
          <p:cNvPicPr/>
          <p:nvPr/>
        </p:nvPicPr>
        <p:blipFill>
          <a:blip r:embed="rId2"/>
          <a:stretch/>
        </p:blipFill>
        <p:spPr>
          <a:xfrm>
            <a:off x="3429000" y="2666880"/>
            <a:ext cx="2438280" cy="15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2"/>
          <p:cNvSpPr/>
          <p:nvPr/>
        </p:nvSpPr>
        <p:spPr>
          <a:xfrm>
            <a:off x="762120" y="1752480"/>
            <a:ext cx="777240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your tables, discuss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ow do I make choices about what documentation to 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new things might you consider about documentation after today’s discu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457200" y="304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ble T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Box 2"/>
          <p:cNvSpPr/>
          <p:nvPr/>
        </p:nvSpPr>
        <p:spPr>
          <a:xfrm>
            <a:off x="990720" y="1523880"/>
            <a:ext cx="77724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riting 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type of writing will this entry requi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documentation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are the main components of this ent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swering th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are the questions I’ll be asked to answ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457200" y="304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itfalls of Entry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2"/>
          <p:cNvSpPr/>
          <p:nvPr/>
        </p:nvSpPr>
        <p:spPr>
          <a:xfrm>
            <a:off x="1371600" y="223200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patterns might you expect to see across your accomplish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457200" y="304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Ref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2"/>
          <p:cNvSpPr/>
          <p:nvPr/>
        </p:nvSpPr>
        <p:spPr>
          <a:xfrm>
            <a:off x="1143000" y="167652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turn to your original corner of the room. Find your original partner if possible and discuss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457200" y="304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Getting Star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1523880" y="324648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hat might be some of your next steps in meeting your go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523880" y="42670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hat might be some effective strategies for approaching Entry 4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1523880" y="5238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here might you sta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2"/>
          <p:cNvSpPr/>
          <p:nvPr/>
        </p:nvSpPr>
        <p:spPr>
          <a:xfrm>
            <a:off x="990720" y="1828800"/>
            <a:ext cx="7772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ank you for engaging one another today, please thank your corner partner and return to your tables to complete the evaluati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r feedback is helpful for planning efforts to support candidates in Arizo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457200" y="304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Eval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2"/>
          <p:cNvSpPr/>
          <p:nvPr/>
        </p:nvSpPr>
        <p:spPr>
          <a:xfrm>
            <a:off x="457200" y="1447920"/>
            <a:ext cx="77724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try 4 is not a resu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ut rather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portun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portunit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demonstrate your influence on students in both depth and bread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ize this opportunity to demonstrate how you go above and beyond what is necessary to truly impact students in ways that are significant enough to warrant your participation in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457200" y="304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hat’s the Purpose of Entry 4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914400" y="3429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685800" y="1295280"/>
            <a:ext cx="777240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o to a corner of the room that best describes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U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’ve started Entry 4 and I’m sure of my chosen accomplish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) I’ve collected documentation but I haven’t written anyt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) I’ve been thinking about Entry 4 and planning, but I haven’t star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) What’s Entry 4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457200" y="304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uckoo"/>
                <a:ea typeface="Arial"/>
              </a:rPr>
              <a:t>4 Cor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990720" y="205740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In your corners, talk about this 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457200" y="304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art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371600" y="3308400"/>
            <a:ext cx="6781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at might be some of your goals and outcomes for today’s sess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990720" y="1676520"/>
            <a:ext cx="7772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ink abou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ne accomplish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you are either considering or have already written about that you might want to look deeper at toda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 will be using it as the focus for our discus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457200" y="304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ession 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609480" y="1371600"/>
            <a:ext cx="77724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explo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he Entry 4 Triangle for a better understanding of the difference between significance and imp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evalu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hoices for accomplishments and documentation against National Board Resources (scoring guide and portfolio instruction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underst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he pitfalls of writing for Entry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begin to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make conne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nd find patterns across accomplish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leave with strateg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for getting started and maintaining fo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457200" y="304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utco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685800" y="1828800"/>
            <a:ext cx="7772400" cy="46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the difference between significance and impa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you give me an examp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zz words do not signal differences in my writing, it is HOW I use the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457200" y="304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ignificance vs. Imp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j0215357"/>
          <p:cNvPicPr/>
          <p:nvPr/>
        </p:nvPicPr>
        <p:blipFill>
          <a:blip r:embed="rId2"/>
          <a:stretch/>
        </p:blipFill>
        <p:spPr>
          <a:xfrm>
            <a:off x="5029200" y="3048120"/>
            <a:ext cx="296388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685800" y="1828800"/>
            <a:ext cx="777240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pairs, designate an “A” and “B” part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–“Talk” about the significance of one accomplish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 – Record statements of evidence that indicate significance, using the triangle to guide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457200" y="304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lk About It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685800" y="175248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nk about an accomplishment that might have indirect student impact or potential student impac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ainstorm some impact statements you might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457200" y="304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otential Imp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5"/>
          <p:cNvSpPr/>
          <p:nvPr/>
        </p:nvSpPr>
        <p:spPr>
          <a:xfrm>
            <a:off x="914400" y="4191120"/>
            <a:ext cx="1219320" cy="13716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9"/>
          <p:cNvSpPr/>
          <p:nvPr/>
        </p:nvSpPr>
        <p:spPr>
          <a:xfrm>
            <a:off x="4070520" y="4851360"/>
            <a:ext cx="961920" cy="598680"/>
          </a:xfrm>
          <a:prstGeom prst="line">
            <a:avLst/>
          </a:prstGeom>
          <a:ln w="25560">
            <a:solidFill>
              <a:srgbClr val="4f81bd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10"/>
          <p:cNvSpPr/>
          <p:nvPr/>
        </p:nvSpPr>
        <p:spPr>
          <a:xfrm>
            <a:off x="2133720" y="5151600"/>
            <a:ext cx="563400" cy="385560"/>
          </a:xfrm>
          <a:prstGeom prst="line">
            <a:avLst/>
          </a:prstGeom>
          <a:ln w="25560">
            <a:solidFill>
              <a:srgbClr val="4f81bd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traight Connector 13"/>
          <p:cNvSpPr/>
          <p:nvPr/>
        </p:nvSpPr>
        <p:spPr>
          <a:xfrm>
            <a:off x="2003400" y="4521240"/>
            <a:ext cx="693720" cy="1440"/>
          </a:xfrm>
          <a:prstGeom prst="line">
            <a:avLst/>
          </a:prstGeom>
          <a:ln w="25560">
            <a:solidFill>
              <a:srgbClr val="4f81bd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16"/>
          <p:cNvSpPr/>
          <p:nvPr/>
        </p:nvSpPr>
        <p:spPr>
          <a:xfrm flipV="1">
            <a:off x="4191120" y="4191120"/>
            <a:ext cx="841320" cy="349200"/>
          </a:xfrm>
          <a:prstGeom prst="line">
            <a:avLst/>
          </a:prstGeom>
          <a:ln w="25560">
            <a:solidFill>
              <a:srgbClr val="4f81bd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2"/>
          <p:cNvSpPr/>
          <p:nvPr/>
        </p:nvSpPr>
        <p:spPr>
          <a:xfrm>
            <a:off x="685800" y="45226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stri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-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3"/>
          <p:cNvSpPr/>
          <p:nvPr/>
        </p:nvSpPr>
        <p:spPr>
          <a:xfrm>
            <a:off x="2697120" y="4246560"/>
            <a:ext cx="149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ties of Pract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4"/>
          <p:cNvSpPr/>
          <p:nvPr/>
        </p:nvSpPr>
        <p:spPr>
          <a:xfrm>
            <a:off x="2697120" y="5327640"/>
            <a:ext cx="149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s’ Practice in Classro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5"/>
          <p:cNvSpPr/>
          <p:nvPr/>
        </p:nvSpPr>
        <p:spPr>
          <a:xfrm>
            <a:off x="5098680" y="3543480"/>
            <a:ext cx="3819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potential influence might m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mplishment have ha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students at other school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response to the inform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, or experiences I shar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7"/>
          <p:cNvSpPr/>
          <p:nvPr/>
        </p:nvSpPr>
        <p:spPr>
          <a:xfrm>
            <a:off x="4648320" y="5327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8"/>
          <p:cNvSpPr/>
          <p:nvPr/>
        </p:nvSpPr>
        <p:spPr>
          <a:xfrm>
            <a:off x="5075280" y="5151600"/>
            <a:ext cx="262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ata sources could I investigate to find out the impact it ha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457200" y="304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Evaluating Cho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914400" y="23209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are some ways you will decide you’ve made the right choice in this accomplish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914400" y="38512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are some strategies for conducting a self-analysis of all your choi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14:53:39Z</dcterms:created>
  <dc:creator>Taryl Hargens</dc:creator>
  <dc:description/>
  <dc:language>en-US</dc:language>
  <cp:lastModifiedBy>Taryl Hargens</cp:lastModifiedBy>
  <dcterms:modified xsi:type="dcterms:W3CDTF">2009-02-08T19:10:21Z</dcterms:modified>
  <cp:revision>6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96450628</vt:r8>
  </property>
  <property fmtid="{D5CDD505-2E9C-101B-9397-08002B2CF9AE}" pid="3" name="_AuthorEmail">
    <vt:lpwstr>sbaird@kyrene.org</vt:lpwstr>
  </property>
  <property fmtid="{D5CDD505-2E9C-101B-9397-08002B2CF9AE}" pid="4" name="_AuthorEmailDisplayName">
    <vt:lpwstr>Baird, Sarah</vt:lpwstr>
  </property>
  <property fmtid="{D5CDD505-2E9C-101B-9397-08002B2CF9AE}" pid="5" name="_EmailSubject">
    <vt:lpwstr>Power Point for Entry 4</vt:lpwstr>
  </property>
</Properties>
</file>